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y%20Did%20You%20Do%20That.wav" ContentType="audio/x-wav"/>
  <Override PartName="/ppt/media/image5.png" ContentType="image/png"/>
  <Override PartName="/ppt/media/image2.gif" ContentType="image/gif"/>
  <Override PartName="/ppt/media/image8.jpeg" ContentType="image/jpeg"/>
  <Override PartName="/ppt/media/image7.png" ContentType="image/png"/>
  <Override PartName="/ppt/media/image9.jpeg" ContentType="image/jpeg"/>
  <Override PartName="/ppt/media/tbesxt.wav" ContentType="audio/x-wav"/>
  <Override PartName="/ppt/media/yeahbaby.wav" ContentType="audio/x-wav"/>
  <Override PartName="/ppt/media/image1.png" ContentType="image/png"/>
  <Override PartName="/ppt/media/chimes.wav" ContentType="audio/x-wav"/>
  <Override PartName="/ppt/media/toldme.wav" ContentType="audio/x-wav"/>
  <Override PartName="/ppt/media/applause.wav" ContentType="audio/x-wav"/>
  <Override PartName="/ppt/media/image6.jpeg" ContentType="image/jpeg"/>
  <Override PartName="/ppt/media/laser.wav" ContentType="audio/x-wav"/>
  <Override PartName="/ppt/media/image4.png" ContentType="image/png"/>
  <Override PartName="/ppt/media/frogcroak.wav" ContentType="audio/x-wav"/>
  <Override PartName="/ppt/media/image3.wmf" ContentType="image/x-wmf"/>
  <Override PartName="/ppt/media/Fanfare3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D4C-BBD8-4D56-AF14-32B28213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0EB-0F4C-4B60-A7C1-F0DFD89C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0EF-6B40-4B2D-A0A5-CFF3957D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7C4-7BE9-4E4B-AD00-5B872211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5C34-5E80-43B9-A600-66756328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1C22-E49F-4626-A99F-284F1EC3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7AD6-7E7B-4B88-A0FA-447AA34F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50A3-8E37-47CE-91DF-AE2B5619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B170-4BBC-449B-A915-79C53C92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3B91-7E0A-406D-8274-A616FE8E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E062-D26F-434D-838B-3C6E4645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87A-DD40-41FF-9FAB-63D4E4DB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6E95-16DA-4B09-AE62-DAEC5510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2E21-C3EA-453A-B24E-6B6E5AB3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BF57-CD77-48DA-9CA6-E3A12989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057E-F3A7-4E23-96BF-8506C04F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1619-738D-47D6-A282-0B3061BB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261-CC6F-4FAA-86A7-FD0B2DEF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0D3-1091-44C9-9DBF-7C426CD8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8AC-C69B-4997-993E-14C75AEF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F2C-24EE-4DD6-8F4F-7D88E256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7AF-B209-4B2D-9F8D-58A5E1A6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203-3B61-46F6-9322-10A9587E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A9C7-8CD5-4507-894A-A2AD2D1B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95D8-93B4-413A-8357-795F6FD5F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C664-84C9-46A0-8A49-27575A9CD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audio" Target="../media/Fanfare3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Why%20Did%20You%20Do%20That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audio" Target="../media/yeahbaby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audio" Target="../media/tbesxt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audio" Target="../media/frogcroak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toldm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issa Haden G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d Wall 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838080" y="228600"/>
            <a:ext cx="7696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ris and Walter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Our teacher is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cc0000"/>
                </a:solidFill>
                <a:latin typeface="Verdana"/>
              </a:rPr>
              <a:t>beautiful</a:t>
            </a:r>
            <a:r>
              <a:rPr b="0" lang="en-US" sz="119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3" descr="Picture1"/>
          <p:cNvPicPr/>
          <p:nvPr/>
        </p:nvPicPr>
        <p:blipFill>
          <a:blip r:embed="rId2"/>
          <a:stretch/>
        </p:blipFill>
        <p:spPr>
          <a:xfrm>
            <a:off x="6095880" y="152280"/>
            <a:ext cx="20415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160" y="38858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Verdana"/>
              </a:rPr>
              <a:t>Someone   ate the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Verdana"/>
              </a:rPr>
              <a:t>apple.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09480" y="3962520"/>
            <a:ext cx="4496040" cy="99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Apple6"/>
          <p:cNvPicPr/>
          <p:nvPr/>
        </p:nvPicPr>
        <p:blipFill>
          <a:blip r:embed="rId2"/>
          <a:stretch/>
        </p:blipFill>
        <p:spPr>
          <a:xfrm>
            <a:off x="6629400" y="533520"/>
            <a:ext cx="2008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160" y="32000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0000"/>
                </a:solidFill>
                <a:latin typeface="Verdana"/>
              </a:rPr>
              <a:t>Someone</a:t>
            </a: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 ate the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pple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Apple6"/>
          <p:cNvPicPr/>
          <p:nvPr/>
        </p:nvPicPr>
        <p:blipFill>
          <a:blip r:embed="rId2"/>
          <a:stretch/>
        </p:blipFill>
        <p:spPr>
          <a:xfrm>
            <a:off x="6629400" y="533520"/>
            <a:ext cx="200808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32763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Will you be my     friend     ?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762120" y="4648320"/>
            <a:ext cx="5105160" cy="1218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5" descr="bearheartpic"/>
          <p:cNvPicPr/>
          <p:nvPr/>
        </p:nvPicPr>
        <p:blipFill>
          <a:blip r:embed="rId2"/>
          <a:stretch/>
        </p:blipFill>
        <p:spPr>
          <a:xfrm>
            <a:off x="5410080" y="533520"/>
            <a:ext cx="3276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32763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Verdana"/>
              </a:rPr>
              <a:t>Will you be my     </a:t>
            </a:r>
            <a:r>
              <a:rPr b="0" lang="en-US" sz="11300" spc="-1" strike="noStrike">
                <a:solidFill>
                  <a:srgbClr val="cc0000"/>
                </a:solidFill>
                <a:latin typeface="Verdana"/>
              </a:rPr>
              <a:t>friend</a:t>
            </a:r>
            <a:r>
              <a:rPr b="0" lang="en-US" sz="1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bearheartpic"/>
          <p:cNvPicPr/>
          <p:nvPr/>
        </p:nvPicPr>
        <p:blipFill>
          <a:blip r:embed="rId2"/>
          <a:stretch/>
        </p:blipFill>
        <p:spPr>
          <a:xfrm>
            <a:off x="5410080" y="533520"/>
            <a:ext cx="327672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Look at the word carefully as it flashes on the screen and then we will spell it together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 algn="ctr">
              <a:spcBef>
                <a:spcPts val="43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17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someone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country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friend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nt the words one time as they appear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whe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ie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unt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autifu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beautiful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000000"/>
                </a:solidFill>
                <a:latin typeface="Verdana"/>
              </a:rPr>
              <a:t>somewhere</a:t>
            </a:r>
            <a:endParaRPr b="0" lang="en-US" sz="9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ckey say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mickeyl"/>
          <p:cNvPicPr/>
          <p:nvPr/>
        </p:nvPicPr>
        <p:blipFill>
          <a:blip r:embed="rId2"/>
          <a:stretch/>
        </p:blipFill>
        <p:spPr>
          <a:xfrm>
            <a:off x="1295280" y="2743200"/>
            <a:ext cx="2900520" cy="33148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4572000" y="1676520"/>
            <a:ext cx="4114800" cy="1447560"/>
          </a:xfrm>
          <a:prstGeom prst="wedgeEllipseCallout">
            <a:avLst>
              <a:gd name="adj1" fmla="val -55750"/>
              <a:gd name="adj2" fmla="val 10745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029200" y="20574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Great job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The United States of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merica is a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country    .  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57200" y="3733920"/>
            <a:ext cx="3962520" cy="1295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usa"/>
          <p:cNvPicPr/>
          <p:nvPr/>
        </p:nvPicPr>
        <p:blipFill>
          <a:blip r:embed="rId2"/>
          <a:stretch/>
        </p:blipFill>
        <p:spPr>
          <a:xfrm>
            <a:off x="5715000" y="3878280"/>
            <a:ext cx="3124080" cy="173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UNITEDSTATES1"/>
          <p:cNvPicPr/>
          <p:nvPr/>
        </p:nvPicPr>
        <p:blipFill>
          <a:blip r:embed="rId3"/>
          <a:stretch/>
        </p:blipFill>
        <p:spPr>
          <a:xfrm>
            <a:off x="6095880" y="152280"/>
            <a:ext cx="185436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The United States of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merica is a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cc0000"/>
                </a:solidFill>
                <a:latin typeface="Verdana"/>
              </a:rPr>
              <a:t>country</a:t>
            </a: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usa"/>
          <p:cNvPicPr/>
          <p:nvPr/>
        </p:nvPicPr>
        <p:blipFill>
          <a:blip r:embed="rId2"/>
          <a:stretch/>
        </p:blipFill>
        <p:spPr>
          <a:xfrm>
            <a:off x="5181480" y="3581280"/>
            <a:ext cx="3657600" cy="203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NITEDSTATES1"/>
          <p:cNvPicPr/>
          <p:nvPr/>
        </p:nvPicPr>
        <p:blipFill>
          <a:blip r:embed="rId3"/>
          <a:stretch/>
        </p:blipFill>
        <p:spPr>
          <a:xfrm>
            <a:off x="6705720" y="228600"/>
            <a:ext cx="185400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32004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Verdana"/>
              </a:rPr>
              <a:t>I know I put that frog somewhere.</a:t>
            </a:r>
            <a:endParaRPr b="0" lang="en-US" sz="7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BookBag02"/>
          <p:cNvPicPr/>
          <p:nvPr/>
        </p:nvPicPr>
        <p:blipFill>
          <a:blip r:embed="rId2"/>
          <a:stretch/>
        </p:blipFill>
        <p:spPr>
          <a:xfrm>
            <a:off x="5943600" y="304920"/>
            <a:ext cx="2317680" cy="26668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2514600" y="4419720"/>
            <a:ext cx="5791320" cy="13716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1920" y="3200400"/>
            <a:ext cx="8991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Verdana"/>
              </a:rPr>
              <a:t>I know I put that frog </a:t>
            </a:r>
            <a:r>
              <a:rPr b="0" lang="en-US" sz="7500" spc="-1" strike="noStrike">
                <a:solidFill>
                  <a:srgbClr val="cc0000"/>
                </a:solidFill>
                <a:latin typeface="Verdana"/>
              </a:rPr>
              <a:t>somewhere</a:t>
            </a:r>
            <a:r>
              <a:rPr b="0" lang="en-US" sz="6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6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3" descr="BookBag02"/>
          <p:cNvPicPr/>
          <p:nvPr/>
        </p:nvPicPr>
        <p:blipFill>
          <a:blip r:embed="rId2"/>
          <a:stretch/>
        </p:blipFill>
        <p:spPr>
          <a:xfrm>
            <a:off x="5943600" y="304920"/>
            <a:ext cx="23176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Please go to the  front  of the line.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666880" y="4038480"/>
            <a:ext cx="3733920" cy="10670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geokidsx"/>
          <p:cNvPicPr/>
          <p:nvPr/>
        </p:nvPicPr>
        <p:blipFill>
          <a:blip r:embed="rId2"/>
          <a:stretch/>
        </p:blipFill>
        <p:spPr>
          <a:xfrm>
            <a:off x="762120" y="228600"/>
            <a:ext cx="731520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560" y="2743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Please go to the </a:t>
            </a:r>
            <a:r>
              <a:rPr b="0" lang="en-US" sz="8800" spc="-1" strike="noStrike">
                <a:solidFill>
                  <a:srgbClr val="cc0000"/>
                </a:solidFill>
                <a:latin typeface="Verdana"/>
              </a:rPr>
              <a:t>front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 of the line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geokidsx"/>
          <p:cNvPicPr/>
          <p:nvPr/>
        </p:nvPicPr>
        <p:blipFill>
          <a:blip r:embed="rId2"/>
          <a:stretch/>
        </p:blipFill>
        <p:spPr>
          <a:xfrm>
            <a:off x="762120" y="228600"/>
            <a:ext cx="7315200" cy="1417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4114800" y="3352680"/>
            <a:ext cx="76320" cy="763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16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Our teacher is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beautiful     !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Picture1"/>
          <p:cNvPicPr/>
          <p:nvPr/>
        </p:nvPicPr>
        <p:blipFill>
          <a:blip r:embed="rId2"/>
          <a:stretch/>
        </p:blipFill>
        <p:spPr>
          <a:xfrm>
            <a:off x="6095880" y="152280"/>
            <a:ext cx="2233800" cy="2667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609480" y="4191120"/>
            <a:ext cx="6400800" cy="1295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24:07Z</dcterms:created>
  <dc:creator>WebMaster</dc:creator>
  <dc:description/>
  <dc:language>en-US</dc:language>
  <cp:lastModifiedBy>Laura McDow</cp:lastModifiedBy>
  <dcterms:modified xsi:type="dcterms:W3CDTF">2010-08-11T21:52:00Z</dcterms:modified>
  <cp:revision>24</cp:revision>
  <dc:subject/>
  <dc:title>Slide 1</dc:title>
</cp:coreProperties>
</file>